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925-7D46-428D-AA82-DDC58F78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CCE-0484-4D4F-ADE9-B8AF2027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D9A-9D12-4C31-B9C2-FCC14AD1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538-91F2-4DA4-B9C3-C9FE33A9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C14-9F04-4743-BC11-DFDA3D41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77E-C14D-4434-B3AE-4097025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57A-0369-496A-8362-6DCEA945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463-8CC5-4C4E-B4AC-B1604838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F0E-AA9F-4EA1-AFD6-95AD4A85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B72-C605-4482-8267-88D113EA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E49-0589-4183-B836-5D287952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E28-0773-441D-9856-CB93C046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E838-DA76-41B1-ACE9-D781AB8AB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ackpac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33520" y="38862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g worn on the back to carry thing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04920" y="49528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yaan carried her backpack to schoo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Documents and Settings\kcs user\Local Settings\Temporary Internet Files\Content.IE5\SZ6733UR\MCj04241700000[1].wmf"/>
          <p:cNvPicPr/>
          <p:nvPr/>
        </p:nvPicPr>
        <p:blipFill>
          <a:blip r:embed="rId1"/>
          <a:stretch/>
        </p:blipFill>
        <p:spPr>
          <a:xfrm>
            <a:off x="228600" y="228600"/>
            <a:ext cx="2457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limb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457200" y="38098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d the hands or feet to move up or down on a steep hill or mount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rsa climbed the mountain with her mo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Documents and Settings\kcs user\Local Settings\Temporary Internet Files\Content.IE5\12T97BD1\MCj02314310000[1].wmf"/>
          <p:cNvPicPr/>
          <p:nvPr/>
        </p:nvPicPr>
        <p:blipFill>
          <a:blip r:embed="rId1"/>
          <a:stretch/>
        </p:blipFill>
        <p:spPr>
          <a:xfrm>
            <a:off x="304920" y="380880"/>
            <a:ext cx="304776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aw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57200" y="3809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young de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d you see the fawn in the movie Bamb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kcs user\Local Settings\Temporary Internet Files\Content.IE5\RWAYEZP7\MCj01116480000[1].wmf"/>
          <p:cNvPicPr/>
          <p:nvPr/>
        </p:nvPicPr>
        <p:blipFill>
          <a:blip r:embed="rId1"/>
          <a:stretch/>
        </p:blipFill>
        <p:spPr>
          <a:xfrm>
            <a:off x="762120" y="533520"/>
            <a:ext cx="27273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ainbo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57200" y="3581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arc of colored light seen in the sk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fter the rain their was a pretty rainb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kcs user\Local Settings\Temporary Internet Files\Content.IE5\BH6GWFC4\MCj03351760000[1].wmf"/>
          <p:cNvPicPr/>
          <p:nvPr/>
        </p:nvPicPr>
        <p:blipFill>
          <a:blip r:embed="rId1"/>
          <a:stretch/>
        </p:blipFill>
        <p:spPr>
          <a:xfrm>
            <a:off x="304920" y="0"/>
            <a:ext cx="32004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nd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57200" y="3581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tle and lo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senia was very tender with the kitte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kcs user\Local Settings\Temporary Internet Files\Content.IE5\SZ6733UR\MCj02810950000[1].wmf"/>
          <p:cNvPicPr/>
          <p:nvPr/>
        </p:nvPicPr>
        <p:blipFill>
          <a:blip r:embed="rId1"/>
          <a:stretch/>
        </p:blipFill>
        <p:spPr>
          <a:xfrm>
            <a:off x="762120" y="380880"/>
            <a:ext cx="2514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roan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57200" y="28195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king a deep moaning sou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80880" y="3886200"/>
            <a:ext cx="838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arrett groaned when his mom told him to read Junie B Jones. His mom groaned when she had to do laundr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kcs user\Local Settings\Temporary Internet Files\Content.IE5\RBXFOIPH\MCj03572550000[1].wmf"/>
          <p:cNvPicPr/>
          <p:nvPr/>
        </p:nvPicPr>
        <p:blipFill>
          <a:blip r:embed="rId1"/>
          <a:stretch/>
        </p:blipFill>
        <p:spPr>
          <a:xfrm>
            <a:off x="457200" y="457200"/>
            <a:ext cx="1911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app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57200" y="3733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lly or foolis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80880" y="4952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rs. Laver cried over the sappy movi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kcs user\Local Settings\Temporary Internet Files\Content.IE5\H6GMZ4FW\MCj02959450000[1].wmf"/>
          <p:cNvPicPr/>
          <p:nvPr/>
        </p:nvPicPr>
        <p:blipFill>
          <a:blip r:embed="rId1"/>
          <a:stretch/>
        </p:blipFill>
        <p:spPr>
          <a:xfrm>
            <a:off x="304920" y="304920"/>
            <a:ext cx="3244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nuggl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57200" y="3733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re cozy and clo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80880" y="49528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bby snuggled with her dog to keep war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kcs user\Local Settings\Temporary Internet Files\Content.IE5\8L0NF2SB\MCj03791310000[1].wmf"/>
          <p:cNvPicPr/>
          <p:nvPr/>
        </p:nvPicPr>
        <p:blipFill>
          <a:blip r:embed="rId1"/>
          <a:stretch/>
        </p:blipFill>
        <p:spPr>
          <a:xfrm>
            <a:off x="457200" y="457200"/>
            <a:ext cx="2403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essa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57200" y="37339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group of words sent from one person to ano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80880" y="51814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left a message on the phone to call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C:\Documents and Settings\kcs user\Local Settings\Temporary Internet Files\Content.IE5\RBXFOIPH\MCj04241900000[1].wmf"/>
          <p:cNvPicPr/>
          <p:nvPr/>
        </p:nvPicPr>
        <p:blipFill>
          <a:blip r:embed="rId1"/>
          <a:stretch/>
        </p:blipFill>
        <p:spPr>
          <a:xfrm>
            <a:off x="838080" y="457200"/>
            <a:ext cx="24386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pea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57200" y="3733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or say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80880" y="51814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day Jackson repeated everything Dory sai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kcs user\Local Settings\Temporary Internet Files\Content.IE5\N8X8NVIM\MCj01505470000[1].wmf"/>
          <p:cNvPicPr/>
          <p:nvPr/>
        </p:nvPicPr>
        <p:blipFill>
          <a:blip r:embed="rId1"/>
          <a:stretch/>
        </p:blipFill>
        <p:spPr>
          <a:xfrm>
            <a:off x="533520" y="3808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ordinar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7200" y="3733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thing that is norm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80880" y="51814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 was an ordinary day, because nothing changed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C:\Documents and Settings\kcs user\Local Settings\Temporary Internet Files\Content.IE5\2QUQ72KL\MCj04347910000[1].png"/>
          <p:cNvPicPr/>
          <p:nvPr/>
        </p:nvPicPr>
        <p:blipFill>
          <a:blip r:embed="rId1"/>
          <a:stretch/>
        </p:blipFill>
        <p:spPr>
          <a:xfrm>
            <a:off x="457200" y="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ampfi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3520" y="38862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tdoor fire for heat or cook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33520" y="4952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built a campfire to roast marshmallow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Documents and Settings\kcs user\Local Settings\Temporary Internet Files\Content.IE5\BH6GWFC4\MCj02328160000[1].wmf"/>
          <p:cNvPicPr/>
          <p:nvPr/>
        </p:nvPicPr>
        <p:blipFill>
          <a:blip r:embed="rId1"/>
          <a:stretch/>
        </p:blipFill>
        <p:spPr>
          <a:xfrm>
            <a:off x="457200" y="304920"/>
            <a:ext cx="3502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hik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57200" y="38862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long walk for pleasure or exerci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4952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shan went on a hike up the mountain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kcs user\Local Settings\Temporary Internet Files\Content.IE5\1QBZPOJ9\MCj02504240000[1].wmf"/>
          <p:cNvPicPr/>
          <p:nvPr/>
        </p:nvPicPr>
        <p:blipFill>
          <a:blip r:embed="rId1"/>
          <a:stretch/>
        </p:blipFill>
        <p:spPr>
          <a:xfrm>
            <a:off x="457200" y="380880"/>
            <a:ext cx="23623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amp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33520" y="38862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ving outside, often in a t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33520" y="4952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stiny went camping with her famil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kcs user\Local Settings\Temporary Internet Files\Content.IE5\N8X8NVIM\MCj04080500000[1].wmf"/>
          <p:cNvPicPr/>
          <p:nvPr/>
        </p:nvPicPr>
        <p:blipFill>
          <a:blip r:embed="rId1"/>
          <a:stretch/>
        </p:blipFill>
        <p:spPr>
          <a:xfrm>
            <a:off x="457200" y="380880"/>
            <a:ext cx="3325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lanter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457200" y="35053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light, often with clear sides, that can be carried arou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el used his lantern to get through he dark woo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kcs user\Local Settings\Temporary Internet Files\Content.IE5\RBXFOIPH\MCj04126260000[1].wmf"/>
          <p:cNvPicPr/>
          <p:nvPr/>
        </p:nvPicPr>
        <p:blipFill>
          <a:blip r:embed="rId1"/>
          <a:stretch/>
        </p:blipFill>
        <p:spPr>
          <a:xfrm>
            <a:off x="609480" y="457200"/>
            <a:ext cx="25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7200" y="35053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lace to sleep when camp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faela popped her tent to sleep for the nigh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Documents and Settings\kcs user\Local Settings\Temporary Internet Files\Content.IE5\12T97BD1\MCj02156240000[1].wmf"/>
          <p:cNvPicPr/>
          <p:nvPr/>
        </p:nvPicPr>
        <p:blipFill>
          <a:blip r:embed="rId1"/>
          <a:stretch/>
        </p:blipFill>
        <p:spPr>
          <a:xfrm>
            <a:off x="380880" y="380880"/>
            <a:ext cx="30481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uit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200" y="35053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musical instrument with strings, played strumming the string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80880" y="52578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vis Presley played the guita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kcs user\Local Settings\Temporary Internet Files\Content.IE5\N8X8NVIM\MCj03053330000[1].wmf"/>
          <p:cNvPicPr/>
          <p:nvPr/>
        </p:nvPicPr>
        <p:blipFill>
          <a:blip r:embed="rId1"/>
          <a:stretch/>
        </p:blipFill>
        <p:spPr>
          <a:xfrm>
            <a:off x="990720" y="762120"/>
            <a:ext cx="3243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hiver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57200" y="3809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aking from being col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uke shivered when the cold rain soaked hi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kcs user\Local Settings\Temporary Internet Files\Content.IE5\H6GMZ4FW\MCPE07665_0000[1].wmf"/>
          <p:cNvPicPr/>
          <p:nvPr/>
        </p:nvPicPr>
        <p:blipFill>
          <a:blip r:embed="rId1"/>
          <a:stretch/>
        </p:blipFill>
        <p:spPr>
          <a:xfrm>
            <a:off x="685800" y="380880"/>
            <a:ext cx="24382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rool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57200" y="3809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let saliva drip from mout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e Moe drooled when she saw the stea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kcs user\Local Settings\Temporary Internet Files\Content.IE5\2QUQ72KL\MCj04239220000[1].wmf"/>
          <p:cNvPicPr/>
          <p:nvPr/>
        </p:nvPicPr>
        <p:blipFill>
          <a:blip r:embed="rId1"/>
          <a:stretch/>
        </p:blipFill>
        <p:spPr>
          <a:xfrm>
            <a:off x="609480" y="380880"/>
            <a:ext cx="2390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20:31:07Z</dcterms:created>
  <dc:creator>kcs user</dc:creator>
  <dc:description/>
  <dc:language>en-US</dc:language>
  <cp:lastModifiedBy>kcs user</cp:lastModifiedBy>
  <dcterms:modified xsi:type="dcterms:W3CDTF">2008-10-02T21:32:36Z</dcterms:modified>
  <cp:revision>7</cp:revision>
  <dc:subject/>
  <dc:title>Slide 1</dc:title>
</cp:coreProperties>
</file>